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9FB-9DC2-4FEE-A5E8-E6D3E366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8AF-F298-4E2A-BD73-82155EA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A629-FD56-47C9-A5B4-C8F295D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043-C713-47F4-AF3C-932AD97E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2BA-5BF1-4E49-BF1B-780A8076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C4B-237D-483F-9D45-03B8FB6D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24E8-20BB-4C92-B98A-58081F9E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F331-6AF8-4A2A-870D-7A6024D1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7E6B-4034-4417-8FB8-A03CFB3E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C32B-2FD6-4A10-9D0A-57ACC99B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00C-4471-4AE3-B12E-8F3A649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C1E-97FB-4E10-A7E9-12B38FE3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FE01-22B2-47FC-BEC6-339EB542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6C78-2331-48E4-A420-2832D04C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7315-9AC4-4EAC-856F-2F490F94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2B7B-2CD0-4421-AC67-BAB789BC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2D2E-7310-430C-A2E8-F22E654D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4A0A-93C1-465D-A47E-5AB1B07F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9F1E-16E2-4CCC-B307-3BC28BDC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E32E-F74B-46B5-9EB9-F5A8E69C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C936-ABCA-489F-B398-2667F851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97CA-823A-476C-A68A-2502E610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D87-66ED-4158-AB62-90D66B64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4B73-0FEE-4C9F-8992-887E4F81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CBF6-FEE2-439C-90A1-B37F42F8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DF549-68F4-44C5-8BF8-B91CD788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5361A-1447-4662-BFD4-3507A45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1D08-736E-48C0-B726-CB66D219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A69B-128E-49FA-B9B2-575E54C6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5CCD-8A07-4755-ACD7-139A5ED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ED3-FBA0-4971-8716-243999C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5E2-925D-4B87-8D4E-1C0265F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0CE-6837-4BBF-B83C-ECD55172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2EC-CA22-43AE-8742-EBD6EC2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37A-D11E-493F-80F9-3E87D460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845-E0A3-4556-9217-E8DE22F4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2A90-1256-46EB-A203-2560556490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910C-AACD-44D9-BB86-24020DC20E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68A3-D27B-487A-B549-F83F793A1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br.ru/" TargetMode="External"/><Relationship Id="rId2" Type="http://schemas.openxmlformats.org/officeDocument/2006/relationships/hyperlink" Target="http://www.eeg.ru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акроэконом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блемы фискальной и монетарной полити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Динамика инфляции является неустойчивой в случае, когда реакция экономических агентов является чувствительной, 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α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gt; 1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(высокая скорость адаптации ожиданий и высокая чувствительность спроса к инфляционным  ожиданиям). В экономике возникает гиперинфляция или гиперде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5280" y="1844640"/>
                <a:ext cx="541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Рассмотрим теперь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гипотезу рациональных инфляционных ожиданий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, когда динамика инфляционных ожиданий и реальных денежных остатков, является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вперед-смотрящ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стейший способ описания рациональных ожиданий дает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гипотеза совершенного предвидения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39640" y="5445000"/>
                <a:ext cx="32212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кажите, что гипотеза совершенного предвидения может быть получена из гипотезы адаптивных ожиданий предельным переходо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796000" y="3500280"/>
                <a:ext cx="12380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4076280"/>
            <a:ext cx="766152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овместно, уравнения (19), (20) и (24) определяют динамику инфляции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84360" y="1844640"/>
                <a:ext cx="274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α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84360" y="2637000"/>
                <a:ext cx="40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1640" y="5373720"/>
                <a:ext cx="5073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84360" y="3429000"/>
                <a:ext cx="32209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3284280"/>
            <a:ext cx="86108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бщее решение данного уравнения динамики можно представить в виде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11280" y="1844640"/>
                <a:ext cx="50734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7960" y="4618080"/>
                <a:ext cx="6880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равнение (25) обладает положительным корнем равным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α</a:t>
            </a:r>
            <a:r>
              <a:rPr b="0" lang="ru-RU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-1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. Назад-смотрящее решение уравнения будет неустойчивы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57720"/>
            <a:ext cx="878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усть темп роста денежной базы постоянен. Тогда для заданного начального услов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755640" y="5516640"/>
                <a:ext cx="48909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790560" y="4654440"/>
                <a:ext cx="2462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  экономике возникает гиперинфляция или гипердефляция. Но странным является не только (и не столько) результат, что экономика с рациональными ожиданиями характеризуется неустойчивой динамико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39640" y="1628640"/>
                <a:ext cx="48913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8785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денежный рынок первоначально находится в стационарном состоянии и происходит дискретное перманентное увеличение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в соответствии с (27) экономика столкнется с гипердефляци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И наоборот, дискретное снижение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приведет к гипер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39640" y="1628640"/>
                <a:ext cx="48913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424400" y="324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292929"/>
                </a:solidFill>
                <a:latin typeface="Times New Roman"/>
              </a:rPr>
              <a:t>μ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argent-Wallace (1973)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редложили следующее решение данной проблемы: концепция рациональных ожиданий предполагает вперед-смотрящее поведение экономических агент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Следовательно, решение уравнения (25) должно быть вперед-смотрящим, а не назад-смотрящи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7640" y="1773000"/>
            <a:ext cx="878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место начального условия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0)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необходимо условие, гарантирующее устойчивость динамики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611280" y="3429000"/>
                <a:ext cx="380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08000" y="4581360"/>
            <a:ext cx="8856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словие (28) исключает возможность гиперинфляции или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гиперинфляционного пузыр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77744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нфляционная динамик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3556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дель гиперинфляции Кейган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indent="3556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ривая инфляционного налога Лаффер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4436640"/>
            <a:ext cx="843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Определяем константу с учетом условия отсутствия гиперинфляционного пузыря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95280" y="1700280"/>
                <a:ext cx="6880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5280" y="3213000"/>
                <a:ext cx="380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95280" y="5532480"/>
                <a:ext cx="466416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31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лучаем вперед-смотрящее решени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95280" y="1700280"/>
                <a:ext cx="688032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τ</m:t>
                                </m:r>
                              </m:sup>
                            </m:sSup>
                            <m:r>
                              <m:t xml:space="preserve">dτ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π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5280" y="3068640"/>
                <a:ext cx="46656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τ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95280" y="5373720"/>
                <a:ext cx="531180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3141720"/>
            <a:ext cx="878544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Уровень инфляции в каждый момент времени определяется не начальным значением (прошлой динамикой), а будущими значениями темпа роста денежной баз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324000" y="1773360"/>
                <a:ext cx="531180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общем случае, когда будущие значения темпа роста денежной базы не известны, вперед-смотрящее решение имеет вид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95280" y="3284640"/>
                <a:ext cx="569268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l-GR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τ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[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l-GR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τ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|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Ф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]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τ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gt;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– оператор рациональных ожиданий, определимый как оператор условного математического ожидания на основе доступного информационного множества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Ф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редположим, что первоначально темп роста денежной базы постоянен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25160" indent="-425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ступает информация, что начиная с момента времени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S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темп роста денежной базы вырастет до нового постоянного уровня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gt;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μ</a:t>
            </a:r>
            <a:r>
              <a:rPr b="0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0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3640" y="5229360"/>
                <a:ext cx="44402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0" y="3157560"/>
                <a:ext cx="9094680" cy="356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α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</m:naryPr>
                              <m:sub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α</m:t>
                                        </m:r>
                                      </m:den>
                                    </m:f>
                                    <m:r>
                                      <m:t xml:space="preserve">(</m:t>
                                    </m:r>
                                    <m:r>
                                      <m:t xml:space="preserve">τ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dτ</m:t>
                                </m:r>
                              </m:e>
                            </m:nary>
                            <m:r>
                              <m:t xml:space="preserve">=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α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0" y="1773360"/>
                <a:ext cx="549108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α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τ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9280" y="171360"/>
          <a:ext cx="865512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1360"/>
                    <a:ext cx="865512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перед-смотрящее реш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В момент времени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292929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ровень инфляции скачком возрастает на величину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39640" y="2781360"/>
                <a:ext cx="50990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α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860640"/>
            <a:ext cx="90360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Уровень инфляции является вперед-смотрящей переменной и может изменяться скачком (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jump variable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. Дискретные изменения в уровне инфляции определяются поступлением новой информации относительно будущих значений темпа роста денежной баз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ак будет выглядеть динамика инфляции, если увеличение является непредвиденным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ак будет выглядеть динамика инфляции, если увеличение является предвиденным, но временным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: модель Кейган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дискретном време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4437000"/>
            <a:ext cx="903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Сформулируйте условие отсутствия гиперинфляционного пузыря и выведите вперед-смотрящее решение для логарифма уровня цен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11280" y="2924280"/>
                <a:ext cx="485748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170028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нфляционные ожидания и спрос на реальные денежные остатки задаются уравнениями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фляционные режим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Низкая 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ысокая 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Гипер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опросы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 чем суть различия инфляционных режимов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Как определяется динамика инфляции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вая инфляционного налога Лафф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едположим, что дефицит государственного бюджета финансируется только за счет сеньораж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11280" y="3573360"/>
                <a:ext cx="63514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πm</m:t>
                    </m:r>
                    <m:r>
                      <m:t xml:space="preserve">=</m:t>
                    </m:r>
                    <m:r>
                      <m:t xml:space="preserve">μ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84360" y="6093000"/>
                <a:ext cx="79232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250920" y="4292640"/>
            <a:ext cx="86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стационарном состоянии денежного рынка бюджетный дефицит покрывается только инфляционный налого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0"/>
            <a:ext cx="435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ривая инфляционного налога Лаффер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54000"/>
          <a:ext cx="8964720" cy="67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000"/>
                    <a:ext cx="8964720" cy="67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ривая инфляционного налога Лаффе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общем случае существует два стационарных уровня инфляции, для которых бюджетный дефицит покрывается инфляционным налого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акой уровень инфляции является устойчивым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0" y="0"/>
                <a:ext cx="3141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π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0" y="836640"/>
                <a:ext cx="47480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0" y="2060640"/>
                <a:ext cx="65977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πm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r>
                      <m:t xml:space="preserve">π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213000"/>
            <a:ext cx="9323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едположим, что ожидания являются адаптивными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0" y="4797360"/>
                <a:ext cx="49258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0" y="5667480"/>
                <a:ext cx="87310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θ</m:t>
                        </m:r>
                      </m:den>
                    </m:f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0"/>
                <a:ext cx="52387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m</m:t>
                        </m:r>
                      </m:e>
                      <m:sub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b>
                      <m:sup>
                        <m:r>
                          <m:t xml:space="preserve">'</m:t>
                        </m:r>
                      </m:sup>
                    </m:sSubSup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0" y="1413000"/>
                <a:ext cx="57625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θ</m:t>
                            </m:r>
                          </m:den>
                        </m:f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d>
                    <m:acc>
                      <m:accPr>
                        <m:chr m:val="˙"/>
                      </m:acc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acc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0" y="2637000"/>
                <a:ext cx="20955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0" y="4076640"/>
                <a:ext cx="42609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0" y="6093000"/>
                <a:ext cx="75391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544500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стационарном состоянии денежного рынка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324000" y="260280"/>
                <a:ext cx="42606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4000" y="1916280"/>
                <a:ext cx="453996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24000" y="4510080"/>
                <a:ext cx="453996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76040" y="476280"/>
          <a:ext cx="8967960" cy="675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476280"/>
                    <a:ext cx="896796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427640" y="189000"/>
                <a:ext cx="45403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76040" y="476280"/>
          <a:ext cx="8967960" cy="675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476280"/>
                    <a:ext cx="896796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356000" y="189000"/>
                <a:ext cx="45403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Если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  <m:e>
                        <m:sSup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⇔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m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Упраж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кажите, что если инфляционные ожидания определяются гипотезой совершенного предвидения, то устойчивым будет уровень высокой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и каком уровне инфляции достигается максимум инфляционного налога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Что будет в экономике, если бюджетный дефицит превосходит максимальный уровень инфляционного налога?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акже как и в модели Кейгана, экономика оказывается в режиме высокой инфляции (гиперинфляции), если скорость адаптации и чувствительность спроса на реальные денежные остатки достаточно высо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240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892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ассмотрим лог-линейную спецификацию функции спроса на реальные денежные остатки, предложенную в работе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agan (1956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0" y="3357720"/>
                <a:ext cx="32320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4653000"/>
            <a:ext cx="57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- полуэластичность спроса на реальные денежные остатки по инфляционным ожидания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0" y="4149720"/>
                <a:ext cx="30304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пражнения и вопросы для обсужде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Ф. Кейган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Гипер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одготовиться к тесту (теория + российская статистика по денежному рынку и государственному бюджету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cbr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www.eeg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6000" y="1700280"/>
            <a:ext cx="89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нормируем константу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А =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1, и обозначи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5640" y="2421000"/>
                <a:ext cx="16621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79280" y="3141720"/>
            <a:ext cx="543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ерепишем (18) в вид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84360" y="3933720"/>
                <a:ext cx="274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α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79280" y="4653000"/>
            <a:ext cx="896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инамика реальных денежных остатков определяется уравнение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4360" y="5707080"/>
                <a:ext cx="52545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ассмотрим вначале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гипотезу адаптивных инфляционных ожиданий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когда динамика инфляционных ожиданий и реальных денежных остатков, является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назад-смотрящ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Экономические агенты систематически ошибаются в прогнозе и адаптируют свои ожидания со скоростью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84360" y="5445000"/>
                <a:ext cx="62179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4076280"/>
            <a:ext cx="766152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овместно, уравнения (19), (20) и (21) определяют динамику инфляции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684360" y="1844640"/>
                <a:ext cx="2741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α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84360" y="2637000"/>
                <a:ext cx="40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84360" y="3357720"/>
                <a:ext cx="6217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θ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300640"/>
                <a:ext cx="5530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8785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усть темп роста денежной базы постоянен. Тогда для заданного начального услов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68360" y="1773360"/>
                <a:ext cx="5530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t xml:space="preserve"> 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π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αθ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68360" y="5229360"/>
                <a:ext cx="541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39640" y="4365720"/>
                <a:ext cx="2462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гиперинфляции Кейга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914400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Динамика инфляции является устойчивой и ее уровень асимптотически стремится к темпу роста денежной базы в случае, когда реакция экономических агентов является нечувствительной, 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α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&lt; 1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(низкая скорость адаптации ожиданий и низкая чувствительность спроса к инфляционным  ожиданиям)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5280" y="1844640"/>
                <a:ext cx="5419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θ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9:38:14Z</dcterms:created>
  <dc:creator>Pekarski</dc:creator>
  <dc:description/>
  <dc:language>en-US</dc:language>
  <cp:lastModifiedBy>Pekarski</cp:lastModifiedBy>
  <dcterms:modified xsi:type="dcterms:W3CDTF">2005-02-01T10:57:55Z</dcterms:modified>
  <cp:revision>10</cp:revision>
  <dc:subject/>
  <dc:title>Макроэкономика</dc:title>
</cp:coreProperties>
</file>